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DE2F-262F-436C-8592-21139A69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AA4-A065-4D64-A9EB-CCA177EC8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819-4C5A-4564-BFB4-FB0847F9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FB77-F86A-4FBB-8974-852A2C547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341-539E-48B6-8867-40C82704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F075-316E-4B38-B90D-2EFDEAF25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2E2B-94E9-453A-9906-B6F71A31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CA1-92C8-4651-83BF-D54CC99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2A1-DE56-4CEC-AED2-FB537D09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BE7-8901-4ED0-BCE7-8A257422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71C-A77A-4B17-A888-8D402793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18A-C8A3-407E-9EC4-E36157EF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982-5C51-4EE9-9545-9BAC9A36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6AC-53D3-4962-8323-42E851B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D6D-9D93-4667-A4FB-D099752F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4B5-B0C7-4C13-9DD8-E1466AF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577-E952-4326-BED5-72216FE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996-FB41-4C0E-875A-45183BE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841-BC5F-4D63-964E-174219E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58D-DB5E-4DE5-A8E1-A981944DF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soft.com/download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6854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A SPOKEN TUTOR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85800" y="3048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k to a Teach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85800" y="4267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Mission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7919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guj.bmp"/>
          <p:cNvPicPr/>
          <p:nvPr/>
        </p:nvPicPr>
        <p:blipFill>
          <a:blip r:embed="rId1"/>
          <a:stretch/>
        </p:blipFill>
        <p:spPr>
          <a:xfrm>
            <a:off x="1295280" y="5500800"/>
            <a:ext cx="124308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in.bmp"/>
          <p:cNvPicPr/>
          <p:nvPr/>
        </p:nvPicPr>
        <p:blipFill>
          <a:blip r:embed="rId2"/>
          <a:stretch/>
        </p:blipFill>
        <p:spPr>
          <a:xfrm>
            <a:off x="4233960" y="5505480"/>
            <a:ext cx="102384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pun.bmp"/>
          <p:cNvPicPr/>
          <p:nvPr/>
        </p:nvPicPr>
        <p:blipFill>
          <a:blip r:embed="rId3"/>
          <a:stretch/>
        </p:blipFill>
        <p:spPr>
          <a:xfrm>
            <a:off x="6372360" y="5411880"/>
            <a:ext cx="1704960" cy="547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91440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poken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7"/>
          <p:cNvSpPr/>
          <p:nvPr/>
        </p:nvSpPr>
        <p:spPr>
          <a:xfrm>
            <a:off x="6477120" y="4659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A Movie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ovie_reel 2.jpg"/>
          <p:cNvPicPr/>
          <p:nvPr/>
        </p:nvPicPr>
        <p:blipFill>
          <a:blip r:embed="rId5"/>
          <a:stretch/>
        </p:blipFill>
        <p:spPr>
          <a:xfrm rot="20280000">
            <a:off x="6342120" y="2393640"/>
            <a:ext cx="18302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uto.bmp"/>
          <p:cNvPicPr/>
          <p:nvPr/>
        </p:nvPicPr>
        <p:blipFill>
          <a:blip r:embed="rId6"/>
          <a:stretch/>
        </p:blipFill>
        <p:spPr>
          <a:xfrm>
            <a:off x="762120" y="1905120"/>
            <a:ext cx="236844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Rectangle 1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2" descr="mic.jpeg"/>
          <p:cNvPicPr/>
          <p:nvPr/>
        </p:nvPicPr>
        <p:blipFill>
          <a:blip r:embed="rId1">
            <a:grayscl/>
          </a:blip>
          <a:srcRect l="10588" t="13863" r="10588" b="13863"/>
          <a:stretch/>
        </p:blipFill>
        <p:spPr>
          <a:xfrm rot="3000000">
            <a:off x="4020120" y="48204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peaker.jpeg"/>
          <p:cNvPicPr/>
          <p:nvPr/>
        </p:nvPicPr>
        <p:blipFill>
          <a:blip r:embed="rId2"/>
          <a:stretch/>
        </p:blipFill>
        <p:spPr>
          <a:xfrm>
            <a:off x="6019920" y="2887560"/>
            <a:ext cx="2609640" cy="25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eadphones.jpg"/>
          <p:cNvPicPr/>
          <p:nvPr/>
        </p:nvPicPr>
        <p:blipFill>
          <a:blip r:embed="rId3"/>
          <a:stretch/>
        </p:blipFill>
        <p:spPr>
          <a:xfrm>
            <a:off x="838080" y="2666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8"/>
          <p:cNvSpPr/>
          <p:nvPr/>
        </p:nvSpPr>
        <p:spPr>
          <a:xfrm>
            <a:off x="106668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set with 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6477120" y="504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343400" y="557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838080" y="22096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ovie Maker, a component of Microsoft Windows, is an editing software that is available for all the latest Windows vers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, XP or V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wnload it free of cost from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icrosoft.com/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11:21Z</dcterms:modified>
  <cp:revision>57</cp:revision>
  <dc:subject/>
  <dc:title>How to use CamStudio</dc:title>
</cp:coreProperties>
</file>