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BE29-C7D4-4E03-9883-7821AFF28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EEB8-D9F9-4904-9D7E-1CAC78641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593F-A002-4CA1-BE94-2985D330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9BF8-CE9E-4F87-9CCB-AD2D0954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BDF5-44CF-4CF8-B509-DE08C0F43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0557-A648-4F91-B080-EBAA35AF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3A13-0527-4BCB-B0BF-FFF92833E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1F70-113D-4BF1-B594-AD9413B8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E185-FBF9-4B74-AA99-05A18156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CAA5-E9ED-41CC-87F3-8B1722DD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85F-1A13-4BB1-BBCC-C81FB029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4A1-6042-4677-ABD9-F3FEF93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34A-D64E-44F0-AD46-BD30ADD7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4C6-6CBC-4795-ACA8-9CEE1EDF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658-D32C-4397-BD87-A2F976D1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E17-B876-42AC-B224-324FC1BD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DB6-927C-4221-8BB7-0B7BA268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D95-98DF-4B19-8EAC-17D47DA4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A0C-84ED-430D-AE6D-1BCD5B4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9F8-6B3A-4E30-82E7-6730EFE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2B7-6DB2-40B8-9DDE-BDDDC76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759-F2F1-4FE7-8C4E-82B99963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E8A4-E8B0-4976-99B0-C0E23CCD8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hyperlink" Target="http://www.camstudio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49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5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2133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5800" y="3962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58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6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22860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PONSORED BY</a:t>
            </a:r>
            <a:br>
              <a:rPr sz="3200"/>
            </a:b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00200" y="490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MH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14300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</a:rPr>
              <a:t>A SPOKEN TU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68580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85800" y="38480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National Mission on Education</a:t>
            </a:r>
            <a:br>
              <a:rPr sz="2800"/>
            </a:b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6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7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38080" y="3376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Animation and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7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 screen-record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records all activities that you see on your screen in AVI format and allows you to play them back later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14400" y="216216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You can use CamStudio t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demonstrate features of a new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udio-video tutorials for schools /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VI video movies used in user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how how to perform 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onvert AVI files to Flash (SWF)  files and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other 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8"/>
          <p:cNvGrpSpPr/>
          <p:nvPr/>
        </p:nvGrpSpPr>
        <p:grpSpPr>
          <a:xfrm>
            <a:off x="957240" y="5187960"/>
            <a:ext cx="7388280" cy="1146240"/>
            <a:chOff x="957240" y="5187960"/>
            <a:chExt cx="7388280" cy="1146240"/>
          </a:xfrm>
        </p:grpSpPr>
        <p:pic>
          <p:nvPicPr>
            <p:cNvPr id="96" name="TextBox 8" descr=""/>
            <p:cNvPicPr/>
            <p:nvPr/>
          </p:nvPicPr>
          <p:blipFill>
            <a:blip r:embed="rId4"/>
            <a:stretch/>
          </p:blipFill>
          <p:spPr>
            <a:xfrm>
              <a:off x="957240" y="5187960"/>
              <a:ext cx="7388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295280" y="548172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Calibri"/>
                </a:rPr>
                <a:t>The uses of this little known software are limitl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9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0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838080" y="2514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can be used with Microsoft Windows 95, 98, Me, NT 4.0, 2000 or XP vers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The minimum requirements are as follow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00 MHz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 MB of hard-disk space for program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0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n open source software and can be downloaded free of cost from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Go to th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camstudi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25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27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National Mission on Education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hrough 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6002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4575"/>
                </a:solidFill>
                <a:latin typeface="Arial"/>
              </a:rPr>
              <a:t>An MHRD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29:00Z</dcterms:modified>
  <cp:revision>28</cp:revision>
  <dc:subject/>
  <dc:title>How to use CamStudio</dc:title>
</cp:coreProperties>
</file>